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failure1.wav" ContentType="audio/x-wav"/>
  <Override PartName="/ppt/media/image8.png" ContentType="image/png"/>
  <Override PartName="/ppt/media/image7.png" ContentType="image/png"/>
  <Override PartName="/ppt/media/hmm.wav" ContentType="audio/x-wav"/>
  <Override PartName="/ppt/media/image1.jpeg" ContentType="image/jpeg"/>
  <Override PartName="/ppt/media/image6.png" ContentType="image/png"/>
  <Override PartName="/ppt/media/ZZZZ.wav" ContentType="audio/x-wav"/>
  <Override PartName="/ppt/media/knowitall.wav" ContentType="audio/x-wav"/>
  <Override PartName="/ppt/media/image12.png" ContentType="image/png"/>
  <Override PartName="/ppt/media/image14.png" ContentType="image/png"/>
  <Override PartName="/ppt/media/image13.png" ContentType="image/png"/>
  <Override PartName="/ppt/media/ticktock.wav" ContentType="audio/x-wav"/>
  <Override PartName="/ppt/media/image4.png" ContentType="image/png"/>
  <Override PartName="/ppt/media/image10.png" ContentType="image/png"/>
  <Override PartName="/ppt/media/image5.png" ContentType="image/png"/>
  <Override PartName="/ppt/media/bugleshort.wav" ContentType="audio/x-wav"/>
  <Override PartName="/ppt/media/image11.png" ContentType="image/png"/>
  <Override PartName="/ppt/media/image2.jpeg" ContentType="image/jpeg"/>
  <Override PartName="/ppt/media/image3.png" ContentType="image/png"/>
  <Override PartName="/ppt/media/12-1234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E4A-6779-4CD2-8729-FB25E0F1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30040" y="431496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9505-D25B-4052-A372-E072D26B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1328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4011-FACD-477B-A461-000871E0B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628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252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3004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628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252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1DBF-D20D-4713-8ADE-CE1875BF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5705E-3FE7-4A41-85AA-37771532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0137-371E-494B-B073-F1772C84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C65B-EA94-406C-AF87-A57368B8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BFE1-45A8-477C-BEDA-4CFD812B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F1DA-4D42-4BC4-AF0B-5D80FC09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30040" y="901800"/>
            <a:ext cx="738324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B89A-B9CB-4808-9C41-4C0DC199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91C8-3060-4CF8-ADB6-B0EA08A2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C3B-B742-420C-BF55-7D04E509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1328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18F1-DA59-4984-B5B5-628F4553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3902-CA14-406F-8B59-986B6C2F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30040" y="431496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43E7-E492-4759-859E-FE9C5E51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1328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7AD0E-AAF4-4D8C-9443-AE439FC5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2628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2520" y="227340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3004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2628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2520" y="4314960"/>
            <a:ext cx="23770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F50E-6F94-4EE9-B337-B499062F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C9EA-71C2-4433-967C-9C0BA0C2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94FB-EBD7-4ED1-A99C-4DF130B1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F8D-712D-47EE-B7A8-EEA8620B3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30040" y="901800"/>
            <a:ext cx="738324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40DA-5E2D-4B16-92D9-BE399C98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94D-BBA6-4016-BACD-85785647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13280" y="431496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FD8-0E99-4AAC-93E4-2D209C79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13280" y="2273400"/>
            <a:ext cx="360288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30040" y="4314960"/>
            <a:ext cx="7383240" cy="18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E37-49C9-4016-9511-12E64C10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41C9-3169-4E66-A1F2-271D3929A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B0AD-A352-491C-83A6-9CB143A8F871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12-1234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failure1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icktock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knowitall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ugleshort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hmm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rategies for Taking Standardized Tests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83" name="Picture 5" descr="testing"/>
          <p:cNvPicPr/>
          <p:nvPr/>
        </p:nvPicPr>
        <p:blipFill>
          <a:blip r:embed="rId1"/>
          <a:stretch/>
        </p:blipFill>
        <p:spPr>
          <a:xfrm>
            <a:off x="2209680" y="1143000"/>
            <a:ext cx="4724640" cy="30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Skip, Return, Check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If you finish early, check to make sure you have answered all questions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2" name="Picture 4" descr="TESTING2"/>
          <p:cNvPicPr/>
          <p:nvPr/>
        </p:nvPicPr>
        <p:blipFill>
          <a:blip r:embed="rId1"/>
          <a:stretch/>
        </p:blipFill>
        <p:spPr>
          <a:xfrm>
            <a:off x="3581280" y="4267080"/>
            <a:ext cx="2557440" cy="2590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Key Word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Find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key words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phrases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in the question that will help you choose the correct answer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15" name="Picture 5" descr="j0089038"/>
          <p:cNvPicPr/>
          <p:nvPr/>
        </p:nvPicPr>
        <p:blipFill>
          <a:blip r:embed="rId1"/>
          <a:stretch/>
        </p:blipFill>
        <p:spPr>
          <a:xfrm>
            <a:off x="3886200" y="4572000"/>
            <a:ext cx="22860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Are we communicating?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ake sure you understand what the question is asking.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e sure you are responding to the question that is being asked.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Reading Passage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15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f the test requires you to read passages and then answer questions about what you read,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523880" y="3733920"/>
            <a:ext cx="6858000" cy="13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read the questions </a:t>
            </a:r>
            <a:r>
              <a:rPr b="1" lang="en-US" sz="4000" spc="-1" strike="noStrike" u="sng">
                <a:solidFill>
                  <a:srgbClr val="cc0066"/>
                </a:solidFill>
                <a:uFillTx/>
                <a:latin typeface="Arial"/>
              </a:rPr>
              <a:t>first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95280" y="4572000"/>
            <a:ext cx="68580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By doing this, you will know what you are looking for as you read.  This also helps you go faster on the test. 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501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Reading Passage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en there are several questions about a reading passage or chart, look for 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</a:rPr>
              <a:t>clues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in other questions that will help you with those items about which you are unsure.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med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836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Math Computation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92468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Line up place value correctly on your scratch paper (thousands, hundreds, tens, ones) or the answer will be incorrect.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6" name="Picture 8" descr="Untitled-1"/>
          <p:cNvPicPr/>
          <p:nvPr/>
        </p:nvPicPr>
        <p:blipFill>
          <a:blip r:embed="rId1"/>
          <a:stretch/>
        </p:blipFill>
        <p:spPr>
          <a:xfrm>
            <a:off x="2209680" y="3657600"/>
            <a:ext cx="53341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Math Computation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30040" y="1981080"/>
            <a:ext cx="73832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f your answer does not match one of the choices, reread the problem, recopy the numbers, and try solving it again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29" name="Picture 4" descr="testing"/>
          <p:cNvPicPr/>
          <p:nvPr/>
        </p:nvPicPr>
        <p:blipFill>
          <a:blip r:embed="rId1"/>
          <a:stretch/>
        </p:blipFill>
        <p:spPr>
          <a:xfrm>
            <a:off x="3581280" y="4038480"/>
            <a:ext cx="2606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A Matter of Time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If any time remains, spend it on those questions about which you know nothing or almost nothing. 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As you go back through, do not change all answers. 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66"/>
                </a:solidFill>
                <a:latin typeface="Arial"/>
              </a:rPr>
              <a:t>Remember:  Your first guess is usually right.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It’s About Time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30400" y="2273400"/>
            <a:ext cx="534672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’t spend too much time rewriting or obsessing about neatness.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’t worry if you run out of time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4" name="Picture 4" descr="calm"/>
          <p:cNvPicPr/>
          <p:nvPr/>
        </p:nvPicPr>
        <p:blipFill>
          <a:blip r:embed="rId1"/>
          <a:stretch/>
        </p:blipFill>
        <p:spPr>
          <a:xfrm>
            <a:off x="7162920" y="2971800"/>
            <a:ext cx="142848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Final Tip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Fill in bubbles fully, write neatly, and erase stray marks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Double-check the test number in your test booklet against the answer sheet every few questions to be sure you haven’t gotten on the wrong number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37" name="Picture 5" descr="test_sheet"/>
          <p:cNvPicPr/>
          <p:nvPr/>
        </p:nvPicPr>
        <p:blipFill>
          <a:blip r:embed="rId1"/>
          <a:stretch/>
        </p:blipFill>
        <p:spPr>
          <a:xfrm>
            <a:off x="6705720" y="76320"/>
            <a:ext cx="2286000" cy="21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‘</a:t>
            </a: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Twas the Night Before Testing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30400" y="2273400"/>
            <a:ext cx="664200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Go to bed on time.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86" name="Group 11"/>
          <p:cNvGrpSpPr/>
          <p:nvPr/>
        </p:nvGrpSpPr>
        <p:grpSpPr>
          <a:xfrm>
            <a:off x="1143000" y="2324160"/>
            <a:ext cx="7886880" cy="1866960"/>
            <a:chOff x="1143000" y="2324160"/>
            <a:chExt cx="7886880" cy="1866960"/>
          </a:xfrm>
        </p:grpSpPr>
        <p:pic>
          <p:nvPicPr>
            <p:cNvPr id="87" name="Picture 5" descr="No2pencil"/>
            <p:cNvPicPr/>
            <p:nvPr/>
          </p:nvPicPr>
          <p:blipFill>
            <a:blip r:embed="rId1"/>
            <a:stretch/>
          </p:blipFill>
          <p:spPr>
            <a:xfrm>
              <a:off x="7162920" y="2324160"/>
              <a:ext cx="1866960" cy="18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6"/>
            <p:cNvSpPr/>
            <p:nvPr/>
          </p:nvSpPr>
          <p:spPr>
            <a:xfrm>
              <a:off x="1143000" y="2819520"/>
              <a:ext cx="61722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buClr>
                  <a:srgbClr val="66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</a:rPr>
                <a:t>Put a few number 2 pencils with erasers in your backpack.</a:t>
              </a:r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89" name="Rectangle 8"/>
          <p:cNvSpPr/>
          <p:nvPr/>
        </p:nvSpPr>
        <p:spPr>
          <a:xfrm>
            <a:off x="1143000" y="4267080"/>
            <a:ext cx="7620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Solve family/friend problems before the testing date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1143000" y="5334120"/>
            <a:ext cx="8001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Talk to your parents about any concerns that you might have about the test.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The Death Grip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273400"/>
            <a:ext cx="798012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f your arm tires during testing it is probably due to the grip that you have on your pencil. 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lax the grip and give those muscles a break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18960" indent="-31896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 not do arm exercises during testing as this disturbs others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40" name="Picture 4" descr="writing3"/>
          <p:cNvPicPr/>
          <p:nvPr/>
        </p:nvPicPr>
        <p:blipFill>
          <a:blip r:embed="rId1"/>
          <a:stretch/>
        </p:blipFill>
        <p:spPr>
          <a:xfrm>
            <a:off x="457200" y="0"/>
            <a:ext cx="20750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Thank you, Mr. Know-it-all!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Remember </a:t>
            </a:r>
            <a:r>
              <a:rPr b="1" lang="en-US" sz="4000" spc="-1" strike="noStrike">
                <a:solidFill>
                  <a:srgbClr val="cc0066"/>
                </a:solidFill>
                <a:latin typeface="Arial"/>
              </a:rPr>
              <a:t>it's okay not to know everything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— unlike class tests, these tests will have some questions designed to challenge the limits of your knowledge at a grade level </a:t>
            </a: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above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your current grade.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p:transition spd="slow">
    <p:cover dir="rd"/>
    <p:sndAc>
      <p:stSnd>
        <p:snd r:embed="rId1" name="knowita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The Morning of Testing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tart your day as you always do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at a good breakfast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hink of what you will do to relax after you get home from school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Think Positively!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uglesho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Multiple Choice Questions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If you do not understand the directions, ask for help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Read the question and </a:t>
            </a:r>
            <a:r>
              <a:rPr b="1" i="1" lang="en-US" sz="4800" spc="-1" strike="noStrike">
                <a:solidFill>
                  <a:srgbClr val="cc0066"/>
                </a:solidFill>
                <a:latin typeface="Arial"/>
              </a:rPr>
              <a:t>all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 answer choices before marking anything.</a:t>
            </a: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Pace Yourself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’t spend too much time on any one question. Do your best and then move on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nswers the easiest questions first, but be sure to go back to those questions you skipped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Multiple Choice Questions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 not change your answers unless you are very uncertain about your first answer choice.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Try to answer every question. Make the most intelligent guess you can.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The Process of Elimination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0904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After you have been through all of the questions once, go back and find questions you have some knowledge about and eliminate choices that you know are incorrect. 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01" name="Group 7"/>
          <p:cNvGrpSpPr/>
          <p:nvPr/>
        </p:nvGrpSpPr>
        <p:grpSpPr>
          <a:xfrm>
            <a:off x="1828800" y="3971880"/>
            <a:ext cx="6858000" cy="2886120"/>
            <a:chOff x="1828800" y="3971880"/>
            <a:chExt cx="6858000" cy="2886120"/>
          </a:xfrm>
        </p:grpSpPr>
        <p:sp>
          <p:nvSpPr>
            <p:cNvPr id="102" name="AutoShape 5"/>
            <p:cNvSpPr/>
            <p:nvPr/>
          </p:nvSpPr>
          <p:spPr>
            <a:xfrm>
              <a:off x="4114800" y="3971880"/>
              <a:ext cx="4572000" cy="2057400"/>
            </a:xfrm>
            <a:prstGeom prst="cloudCallout">
              <a:avLst>
                <a:gd name="adj1" fmla="val -63749"/>
                <a:gd name="adj2" fmla="val 41666"/>
              </a:avLst>
            </a:prstGeom>
            <a:solidFill>
              <a:srgbClr val="ffff0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660066"/>
                  </a:solidFill>
                  <a:latin typeface="Arial"/>
                </a:rPr>
                <a:t>I know </a:t>
              </a:r>
              <a:r>
                <a:rPr b="1" i="1" lang="en-US" sz="3600" spc="-1" strike="noStrike">
                  <a:solidFill>
                    <a:srgbClr val="660066"/>
                  </a:solidFill>
                  <a:latin typeface="Arial"/>
                </a:rPr>
                <a:t>C</a:t>
              </a:r>
              <a:r>
                <a:rPr b="1" lang="en-US" sz="3200" spc="-1" strike="noStrike">
                  <a:solidFill>
                    <a:srgbClr val="660066"/>
                  </a:solidFill>
                  <a:latin typeface="Arial"/>
                </a:rPr>
                <a:t> isn’t the answer!</a:t>
              </a:r>
              <a:endParaRPr b="0" lang="en-US" sz="32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  <p:pic>
          <p:nvPicPr>
            <p:cNvPr id="103" name="Picture 6" descr="nope"/>
            <p:cNvPicPr/>
            <p:nvPr/>
          </p:nvPicPr>
          <p:blipFill>
            <a:blip r:embed="rId1"/>
            <a:stretch/>
          </p:blipFill>
          <p:spPr>
            <a:xfrm>
              <a:off x="1828800" y="5495760"/>
              <a:ext cx="1228680" cy="136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mm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0036"/>
                </a:solidFill>
                <a:latin typeface="Arial"/>
              </a:rPr>
              <a:t>The Process of Elimination</a:t>
            </a:r>
            <a:endParaRPr b="1" lang="en-US" sz="44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If you can eliminate two wrong answers, your chance of choosing the right answer is greater.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6" name="Picture 4" descr="guess"/>
          <p:cNvPicPr/>
          <p:nvPr/>
        </p:nvPicPr>
        <p:blipFill>
          <a:blip r:embed="rId1"/>
          <a:stretch/>
        </p:blipFill>
        <p:spPr>
          <a:xfrm>
            <a:off x="4038480" y="4495680"/>
            <a:ext cx="236232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30040" y="901800"/>
            <a:ext cx="738324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60036"/>
                </a:solidFill>
                <a:latin typeface="Arial"/>
              </a:rPr>
              <a:t>Answering Questions</a:t>
            </a:r>
            <a:endParaRPr b="1" lang="en-US" sz="4800" spc="-1" strike="noStrike">
              <a:solidFill>
                <a:srgbClr val="36003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30040" y="2273400"/>
            <a:ext cx="7383240" cy="390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Don't guess blindly, but if you have time to think about the best answer choice, make it! </a:t>
            </a:r>
            <a:endParaRPr b="1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109" name="Picture 4" descr="Litebulb"/>
          <p:cNvPicPr/>
          <p:nvPr/>
        </p:nvPicPr>
        <p:blipFill>
          <a:blip r:embed="rId1"/>
          <a:stretch/>
        </p:blipFill>
        <p:spPr>
          <a:xfrm>
            <a:off x="3886200" y="4267080"/>
            <a:ext cx="207972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18:54:52Z</dcterms:created>
  <dc:creator>Connie Campbell</dc:creator>
  <dc:description/>
  <dc:language>en-US</dc:language>
  <cp:lastModifiedBy>Teacher</cp:lastModifiedBy>
  <dcterms:modified xsi:type="dcterms:W3CDTF">2012-10-05T13:41:40Z</dcterms:modified>
  <cp:revision>18</cp:revision>
  <dc:subject/>
  <dc:title>Test Taking Strategies</dc:title>
</cp:coreProperties>
</file>